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F7C-43B9-402B-80C1-CA244169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3D7-C089-4C5F-8AB0-0332F1E4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408-3DC8-4CC7-9CA5-568EF9CC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0BF-FF00-4265-AA1E-D81856AA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3457-9361-44BC-85C6-6281F85B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8B5B-4760-4638-AE1B-ED6E3F57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DB22-7969-4FF7-8CA7-68EFABF8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CEE8-9AFF-44FA-8DE4-68DBF62A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CBC4-1474-49AE-B0FC-BD879E48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A6E4-B0E2-4D5F-84EF-10523F6D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237A-8070-41B3-A152-60B37E3D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050-61DE-4FF5-8438-B2244845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13EA-7AB5-4DE7-AFA9-EBEB37F9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85F1-0744-4039-B986-7E7EF0DD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315E-F4C2-4EEB-97EC-E00E9D7F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EEF5-1A62-4E65-92D0-B547F426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9ADA-67D9-4D83-9ACB-A4ABC1B5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72A-03B1-4271-82D0-605FD37D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548-B22A-4AB3-ACFA-12FF78D6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705-0607-4978-B84F-C938A835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F64-DA5F-4F00-8D25-7A24CADD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4DF-4900-4F2C-ADC9-947E5C62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BDF-9F7E-42A7-896F-FBB3B6E7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344A-1FDD-439A-89E5-9825BDE3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6B4B-4443-4517-A0C9-762A279C2C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F2FC-B008-44CF-A73C-5D815EF624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INUNEA SARBATORILOR DE PAST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tati cross-curriculare desfasurate in CDI Tarn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.Semnificatia Sfintelor Sarbatori de Pa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vita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area prin intermediul internetului pe tema propu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actarea unor texte in conturile propri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tarea si inserarea imaginilor semnific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71680" y="2419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.Semnificatia Sfintelor Sarbatori de Pa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up tinta:4 elevi clasa a II-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actul astepta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tivarea elevilor pentru intelegerea simbolurilor pascale, in viata crestina si respactarea valorilor de bine, adevar, iubi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7480" y="257796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Mancaruri traditionale romanesti de Past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inteleaga semnificatia simbolurilor pascale (oua incondeiate,iepurasul, mielu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caute retete de Pasti din diverse surs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prezinte retete de bucate care se prepara la masa de Paste, la roman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realizeze o brosura cu retete traditionale specifice Patelu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up tinta: 4 elevi din clasa a II-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Mancaruri traditionale romanesti de Pasti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vita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Prezent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mnificatiei oualor incondeiat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mnificatiei iepurasulu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mnificatiei mielulu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0798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Mancaruri traditionale romanesti de Pasti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422520" cy="380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Identificarea unor rete de bucate cu specific traditional romanes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Realizarea a doua brosuri care vor cuprinde  retele propuse de elev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ACTUL ASTEPT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vii vor cunoaste semnificatia zilelor de Paste, vor cunoaste retetele de bucate traditionale romanesti care se prepara  cu prilejul Sfintelor Pasti, participand in ajutarea mamicil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.Incondeiat de ou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foloseasca corect materialele de lucr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-si dezvolte abilitati pentru incondeiatul  oualor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obtina tratarea picturala a obiectul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up tinta: 4 elevi clasa  a VII-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.Incondeiat de ou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vita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ondeiat de o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Fara albus si galben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mpac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levii vor constientiza pastrarea traditiilor de incondeiat oua in Vinerea Ma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.Borza Corne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. Crisan Lored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. religie Danciu Andr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. desen Deta Teod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. Grada Viol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dre didact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23920" y="2362320"/>
            <a:ext cx="946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isus a zis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Eu sunt Invierea si viat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ine crede in Mine, chiar daca ar fi murit 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rai.”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(Ioan 11:25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tivitati centrate pe grupe de intere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Semnificatia zilelor din Saptamana Mare. (Spatiul lecturii de destindere-”Colt lectura”)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Importanta zilelor: Joi, Vineri, Sambata din Saptamana Mare( Spatiul audiovizualului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Semnificatia Sfintelor Sarbatori de Pasti( Spatiul informat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Mancaruri traditionale romanesti de Pasti (Spatiu de lucru pe gru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Incondeiat de oua (Spatiu de lucru pe gru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.Semnificatia zilelor din Saptamana M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iecti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 caute informatii despre importanta zilelor din Saptamana Patimilo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 selecteze continuturile si imaginile necesar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 argumenteze necesitatea cunoasterii zilelor din Saptamana Patimil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.Semnificatia zilelor din Saptamana M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vita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area materialel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tetizarea materialelor supuse studiulu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tinerea prezentarii Power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95160" y="1600200"/>
            <a:ext cx="35625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.Semnificatia zilelor din Saptamana M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actu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perea zilelor Sapatamanii Mari ca trepte  de pregatire pentru primirea vietii izvorate din Invierea lui Hris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up tinta: 4 elevi din clasa aVIII-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.Importanta zilelor: Joi, Vineri, Sambata din Saptamana M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93720" y="1600200"/>
            <a:ext cx="1765440" cy="2171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iecti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vizioneze secvente din filmul: “Iisus din Nazaret”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discute in grup despre importanta zilelor: Joi, Vineri si Sambata, din Saptamana Mar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ordoneze cronologic imagini reprezentand datele si informatiile prim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.Importanta zilelor: Joi, Vineri, Sambata din Saptamana M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vita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izionarea secventelor din filmul prop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alizarea unui poster pe tematica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up tinta: 4 elevi din clasa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ac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nsibilizarea elevilor referitor la simbolistica Patimilor lui Iis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.Semnificatia Sfintelor Sarbatori de Pa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iecti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gaseasca informatii si poze despre Sfintele Paste prin intermediul internetulu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utilizeze corect bara cu instrumente de lucru din conturile proprii pe think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insereze imagini reperzentative de Pa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7:36:32Z</dcterms:created>
  <dc:creator>Scoala Generala Tirnova</dc:creator>
  <dc:description/>
  <dc:language>en-US</dc:language>
  <cp:lastModifiedBy>Scoala Generala Tirnova</cp:lastModifiedBy>
  <dcterms:modified xsi:type="dcterms:W3CDTF">2008-04-15T10:28:20Z</dcterms:modified>
  <cp:revision>6</cp:revision>
  <dc:subject/>
  <dc:title>SFANTA SARBATOARE DE PASTI</dc:title>
</cp:coreProperties>
</file>